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jpeg" ContentType="image/jpeg"/>
  <Override PartName="/ppt/media/image10.png" ContentType="image/png"/>
  <Override PartName="/ppt/media/image11.png" ContentType="image/png"/>
  <Override PartName="/ppt/media/wind.wav" ContentType="audio/x-wav"/>
  <Override PartName="/ppt/media/explode.wav" ContentType="audio/x-wav"/>
  <Override PartName="/ppt/media/image1.jpeg" ContentType="image/jpeg"/>
  <Override PartName="/ppt/media/image2.jpeg" ContentType="image/jpeg"/>
  <Override PartName="/ppt/media/Thunk.wav" ContentType="audio/x-wav"/>
  <Override PartName="/ppt/media/image9.png" ContentType="image/png"/>
  <Override PartName="/ppt/media/Beep.wav" ContentType="audio/x-wav"/>
  <Override PartName="/ppt/media/image3.jpeg" ContentType="image/jpeg"/>
  <Override PartName="/ppt/media/image4.jpeg" ContentType="image/jpeg"/>
  <Override PartName="/ppt/media/image8.jpeg" ContentType="image/jpeg"/>
  <Override PartName="/ppt/media/image7.jpeg" ContentType="image/jpeg"/>
  <Override PartName="/ppt/media/voltage.wav" ContentType="audio/x-wav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AC7-3DBA-4C5E-AE79-056BAB50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96F-8CBB-4ABB-91C9-E169D592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D3A7-EFB7-4CC3-AFBB-DD9D507E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C17-DA3A-4CFA-AF13-5A84E5BC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D4B-9FAC-4E6D-BDFF-AF704085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A7A-4D5F-48C5-97D5-E517B9E4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44C-5125-4618-9968-A08FF93A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F0A3-54A0-40AA-884F-93926D9D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98C-B03A-48CA-9867-2862535F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132-32D1-40F0-8BB1-34AFE0EB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853-C570-4DB8-8CB4-117EB0B3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62E-0C5F-4B18-8332-58984188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749E-68B9-445B-BCA6-D47E3116C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eep.wav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eep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audio" Target="../media/Beep.wav"/><Relationship Id="rId4" Type="http://schemas.openxmlformats.org/officeDocument/2006/relationships/audio" Target="../media/Beep.wav"/><Relationship Id="rId5" Type="http://schemas.openxmlformats.org/officeDocument/2006/relationships/audio" Target="../media/Thunk.wav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eep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eep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 1 Credit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4C02-F7ED-4D01-A5BD-DC8CAAB9C47A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2133720"/>
            <a:ext cx="0" cy="38890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844640"/>
            <a:ext cx="3816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133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sson 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46920" y="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333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culations and the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836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tandard Form  Scientific Notation -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2565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be able to use the calculator to calculate values using scientific n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12000" y="476280"/>
            <a:ext cx="2747880" cy="2538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diame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390 000 </a:t>
            </a: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201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84720" y="549360"/>
            <a:ext cx="2232360" cy="223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Jup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diame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3 000 </a:t>
            </a: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201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443640" y="476280"/>
            <a:ext cx="2233800" cy="2141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diame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 000 </a:t>
            </a: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201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093080" y="549360"/>
            <a:ext cx="1390680" cy="1409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mas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76</a:t>
            </a: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 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201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92360" y="1341360"/>
            <a:ext cx="2808360" cy="48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39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3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620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Can you write these numbers in standard f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701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701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701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701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95520" y="452520"/>
            <a:ext cx="5952960" cy="595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39000" y="469800"/>
            <a:ext cx="196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eckbook"/>
              </a:rPr>
              <a:t>You ar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841720" y="843120"/>
            <a:ext cx="1165320" cy="3841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330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heckbook"/>
              </a:rPr>
              <a:t>World Populatio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6 450 000 000 = 6.45 billion = 6.4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× 10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901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901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 1 Credit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398C-211A-435F-A218-6C0D87778F4E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6920" y="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8360" y="333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culations and the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836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tandard Form  Scientific Notation -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5"/>
          <p:cNvSpPr/>
          <p:nvPr/>
        </p:nvSpPr>
        <p:spPr>
          <a:xfrm>
            <a:off x="324000" y="17002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 can use scientific notation on the calculator. Depending on your calculator you will use one of the following butt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6"/>
          <p:cNvSpPr/>
          <p:nvPr/>
        </p:nvSpPr>
        <p:spPr>
          <a:xfrm>
            <a:off x="1094040" y="2852640"/>
            <a:ext cx="64224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GB" sz="4400" spc="-1" strike="noStrike" baseline="30000">
                <a:solidFill>
                  <a:srgbClr val="ffffff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7"/>
          <p:cNvSpPr/>
          <p:nvPr/>
        </p:nvSpPr>
        <p:spPr>
          <a:xfrm>
            <a:off x="2430720" y="2852640"/>
            <a:ext cx="99288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0"/>
          <p:cNvSpPr/>
          <p:nvPr/>
        </p:nvSpPr>
        <p:spPr>
          <a:xfrm>
            <a:off x="4102560" y="2852640"/>
            <a:ext cx="65016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ingdings 3"/>
                <a:ea typeface="Wingdings 3"/>
              </a:rPr>
              <a:t>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8"/>
          <p:cNvSpPr/>
          <p:nvPr/>
        </p:nvSpPr>
        <p:spPr>
          <a:xfrm>
            <a:off x="5490000" y="2852640"/>
            <a:ext cx="115776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X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9"/>
          <p:cNvSpPr/>
          <p:nvPr/>
        </p:nvSpPr>
        <p:spPr>
          <a:xfrm>
            <a:off x="7510680" y="2852640"/>
            <a:ext cx="80244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1"/>
          <p:cNvSpPr/>
          <p:nvPr/>
        </p:nvSpPr>
        <p:spPr>
          <a:xfrm>
            <a:off x="1569240" y="3933720"/>
            <a:ext cx="65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ou may have to use the shift but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2"/>
          <p:cNvSpPr/>
          <p:nvPr/>
        </p:nvSpPr>
        <p:spPr>
          <a:xfrm>
            <a:off x="1192680" y="4581360"/>
            <a:ext cx="63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Enter the 5.4x10</a:t>
            </a:r>
            <a:r>
              <a:rPr b="0" lang="en-US" sz="2800" spc="-1" strike="noStrike" baseline="30000">
                <a:solidFill>
                  <a:srgbClr val="ffc0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into your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3400560" y="5319720"/>
            <a:ext cx="43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Calculator Key  P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9"/>
          <p:cNvGrpSpPr/>
          <p:nvPr/>
        </p:nvGrpSpPr>
        <p:grpSpPr>
          <a:xfrm>
            <a:off x="2498760" y="5735520"/>
            <a:ext cx="495360" cy="457200"/>
            <a:chOff x="2498760" y="5735520"/>
            <a:chExt cx="495360" cy="457200"/>
          </a:xfrm>
        </p:grpSpPr>
        <p:sp>
          <p:nvSpPr>
            <p:cNvPr id="167" name="Rectangle 20"/>
            <p:cNvSpPr/>
            <p:nvPr/>
          </p:nvSpPr>
          <p:spPr>
            <a:xfrm>
              <a:off x="2498760" y="573552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1"/>
            <p:cNvSpPr/>
            <p:nvPr/>
          </p:nvSpPr>
          <p:spPr>
            <a:xfrm>
              <a:off x="2610360" y="5776920"/>
              <a:ext cx="3117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74"/>
          <p:cNvGrpSpPr/>
          <p:nvPr/>
        </p:nvGrpSpPr>
        <p:grpSpPr>
          <a:xfrm>
            <a:off x="3106800" y="5735520"/>
            <a:ext cx="495360" cy="457200"/>
            <a:chOff x="3106800" y="5735520"/>
            <a:chExt cx="495360" cy="457200"/>
          </a:xfrm>
        </p:grpSpPr>
        <p:sp>
          <p:nvSpPr>
            <p:cNvPr id="170" name="Rectangle 23"/>
            <p:cNvSpPr/>
            <p:nvPr/>
          </p:nvSpPr>
          <p:spPr>
            <a:xfrm>
              <a:off x="3106800" y="573552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67"/>
            <p:cNvSpPr/>
            <p:nvPr/>
          </p:nvSpPr>
          <p:spPr>
            <a:xfrm>
              <a:off x="3313080" y="5937120"/>
              <a:ext cx="79200" cy="6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25"/>
          <p:cNvGrpSpPr/>
          <p:nvPr/>
        </p:nvGrpSpPr>
        <p:grpSpPr>
          <a:xfrm>
            <a:off x="3713040" y="5735520"/>
            <a:ext cx="495360" cy="457200"/>
            <a:chOff x="3713040" y="5735520"/>
            <a:chExt cx="495360" cy="457200"/>
          </a:xfrm>
        </p:grpSpPr>
        <p:sp>
          <p:nvSpPr>
            <p:cNvPr id="173" name="Rectangle 26"/>
            <p:cNvSpPr/>
            <p:nvPr/>
          </p:nvSpPr>
          <p:spPr>
            <a:xfrm>
              <a:off x="3713040" y="573552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7"/>
            <p:cNvSpPr/>
            <p:nvPr/>
          </p:nvSpPr>
          <p:spPr>
            <a:xfrm>
              <a:off x="3819960" y="5765760"/>
              <a:ext cx="3117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49"/>
          <p:cNvGrpSpPr/>
          <p:nvPr/>
        </p:nvGrpSpPr>
        <p:grpSpPr>
          <a:xfrm>
            <a:off x="5219640" y="5734080"/>
            <a:ext cx="495360" cy="457200"/>
            <a:chOff x="5219640" y="5734080"/>
            <a:chExt cx="495360" cy="457200"/>
          </a:xfrm>
        </p:grpSpPr>
        <p:sp>
          <p:nvSpPr>
            <p:cNvPr id="176" name="Rectangle 50"/>
            <p:cNvSpPr/>
            <p:nvPr/>
          </p:nvSpPr>
          <p:spPr>
            <a:xfrm>
              <a:off x="5219640" y="573408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303520" y="5780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356000" y="5734080"/>
            <a:ext cx="720720" cy="457200"/>
            <a:chOff x="4356000" y="5734080"/>
            <a:chExt cx="720720" cy="457200"/>
          </a:xfrm>
        </p:grpSpPr>
        <p:sp>
          <p:nvSpPr>
            <p:cNvPr id="179" name="Rectangle 26"/>
            <p:cNvSpPr/>
            <p:nvPr/>
          </p:nvSpPr>
          <p:spPr>
            <a:xfrm>
              <a:off x="4356000" y="5734080"/>
              <a:ext cx="72072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7"/>
            <p:cNvSpPr/>
            <p:nvPr/>
          </p:nvSpPr>
          <p:spPr>
            <a:xfrm>
              <a:off x="4471560" y="5764320"/>
              <a:ext cx="5799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 1 Credit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BD20-CD12-4674-BD07-7912ECB409FC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46920" y="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333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culations and the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836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tandard Form  Scientific Notation -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6"/>
          <p:cNvSpPr/>
          <p:nvPr/>
        </p:nvSpPr>
        <p:spPr>
          <a:xfrm>
            <a:off x="2224440" y="1928880"/>
            <a:ext cx="64224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GB" sz="4400" spc="-1" strike="noStrike" baseline="30000">
                <a:solidFill>
                  <a:srgbClr val="ffffff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7"/>
          <p:cNvSpPr/>
          <p:nvPr/>
        </p:nvSpPr>
        <p:spPr>
          <a:xfrm>
            <a:off x="3135600" y="1928880"/>
            <a:ext cx="99288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8"/>
          <p:cNvSpPr/>
          <p:nvPr/>
        </p:nvSpPr>
        <p:spPr>
          <a:xfrm>
            <a:off x="5323320" y="1928880"/>
            <a:ext cx="115776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X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9"/>
          <p:cNvSpPr/>
          <p:nvPr/>
        </p:nvSpPr>
        <p:spPr>
          <a:xfrm>
            <a:off x="6797880" y="1928880"/>
            <a:ext cx="80244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0"/>
          <p:cNvSpPr/>
          <p:nvPr/>
        </p:nvSpPr>
        <p:spPr>
          <a:xfrm>
            <a:off x="4386600" y="1928880"/>
            <a:ext cx="650160" cy="764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ingdings 3"/>
                <a:ea typeface="Wingdings 3"/>
              </a:rPr>
              <a:t>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1"/>
          <p:cNvSpPr/>
          <p:nvPr/>
        </p:nvSpPr>
        <p:spPr>
          <a:xfrm>
            <a:off x="1775880" y="2730600"/>
            <a:ext cx="65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ou may have to use the shift but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2"/>
          <p:cNvSpPr/>
          <p:nvPr/>
        </p:nvSpPr>
        <p:spPr>
          <a:xfrm>
            <a:off x="1226160" y="3325680"/>
            <a:ext cx="33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Example: 6.25x10</a:t>
            </a:r>
            <a:r>
              <a:rPr b="0" lang="en-US" sz="2800" spc="-1" strike="noStrike" baseline="30000">
                <a:solidFill>
                  <a:srgbClr val="ffc000"/>
                </a:solidFill>
                <a:latin typeface="Comic Sans MS"/>
              </a:rPr>
              <a:t>-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3451680" y="374328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Calculator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9"/>
          <p:cNvGrpSpPr/>
          <p:nvPr/>
        </p:nvGrpSpPr>
        <p:grpSpPr>
          <a:xfrm>
            <a:off x="2552760" y="4159080"/>
            <a:ext cx="495360" cy="457200"/>
            <a:chOff x="2552760" y="4159080"/>
            <a:chExt cx="495360" cy="457200"/>
          </a:xfrm>
        </p:grpSpPr>
        <p:sp>
          <p:nvSpPr>
            <p:cNvPr id="196" name="Rectangle 20"/>
            <p:cNvSpPr/>
            <p:nvPr/>
          </p:nvSpPr>
          <p:spPr>
            <a:xfrm>
              <a:off x="2552760" y="415908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1"/>
            <p:cNvSpPr/>
            <p:nvPr/>
          </p:nvSpPr>
          <p:spPr>
            <a:xfrm>
              <a:off x="2664360" y="4200480"/>
              <a:ext cx="3117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5"/>
          <p:cNvGrpSpPr/>
          <p:nvPr/>
        </p:nvGrpSpPr>
        <p:grpSpPr>
          <a:xfrm>
            <a:off x="3767040" y="4159080"/>
            <a:ext cx="495360" cy="457200"/>
            <a:chOff x="3767040" y="4159080"/>
            <a:chExt cx="495360" cy="457200"/>
          </a:xfrm>
        </p:grpSpPr>
        <p:sp>
          <p:nvSpPr>
            <p:cNvPr id="199" name="Rectangle 26"/>
            <p:cNvSpPr/>
            <p:nvPr/>
          </p:nvSpPr>
          <p:spPr>
            <a:xfrm>
              <a:off x="3767040" y="415908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7"/>
            <p:cNvSpPr/>
            <p:nvPr/>
          </p:nvSpPr>
          <p:spPr>
            <a:xfrm>
              <a:off x="3873960" y="4189320"/>
              <a:ext cx="3117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49"/>
          <p:cNvGrpSpPr/>
          <p:nvPr/>
        </p:nvGrpSpPr>
        <p:grpSpPr>
          <a:xfrm>
            <a:off x="5867280" y="4149720"/>
            <a:ext cx="495360" cy="457200"/>
            <a:chOff x="5867280" y="4149720"/>
            <a:chExt cx="495360" cy="457200"/>
          </a:xfrm>
        </p:grpSpPr>
        <p:sp>
          <p:nvSpPr>
            <p:cNvPr id="202" name="Rectangle 50"/>
            <p:cNvSpPr/>
            <p:nvPr/>
          </p:nvSpPr>
          <p:spPr>
            <a:xfrm>
              <a:off x="5867280" y="414972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51"/>
            <p:cNvSpPr/>
            <p:nvPr/>
          </p:nvSpPr>
          <p:spPr>
            <a:xfrm>
              <a:off x="5957640" y="4195800"/>
              <a:ext cx="25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86"/>
          <p:cNvGrpSpPr/>
          <p:nvPr/>
        </p:nvGrpSpPr>
        <p:grpSpPr>
          <a:xfrm>
            <a:off x="3160800" y="4159080"/>
            <a:ext cx="495360" cy="457200"/>
            <a:chOff x="3160800" y="4159080"/>
            <a:chExt cx="495360" cy="457200"/>
          </a:xfrm>
        </p:grpSpPr>
        <p:sp>
          <p:nvSpPr>
            <p:cNvPr id="205" name="Rectangle 23"/>
            <p:cNvSpPr/>
            <p:nvPr/>
          </p:nvSpPr>
          <p:spPr>
            <a:xfrm>
              <a:off x="3160800" y="415908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67"/>
            <p:cNvSpPr/>
            <p:nvPr/>
          </p:nvSpPr>
          <p:spPr>
            <a:xfrm>
              <a:off x="3367080" y="4360680"/>
              <a:ext cx="79200" cy="6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Box 46"/>
          <p:cNvSpPr/>
          <p:nvPr/>
        </p:nvSpPr>
        <p:spPr>
          <a:xfrm>
            <a:off x="1188360" y="4776840"/>
            <a:ext cx="33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Example: 8.31x10</a:t>
            </a:r>
            <a:r>
              <a:rPr b="0" lang="en-US" sz="2800" spc="-1" strike="noStrike" baseline="30000">
                <a:solidFill>
                  <a:srgbClr val="ffc000"/>
                </a:solidFill>
                <a:latin typeface="Comic Sans MS"/>
              </a:rPr>
              <a:t>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3484800" y="519444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Calculator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9"/>
          <p:cNvGrpSpPr/>
          <p:nvPr/>
        </p:nvGrpSpPr>
        <p:grpSpPr>
          <a:xfrm>
            <a:off x="6443640" y="4149720"/>
            <a:ext cx="495360" cy="457200"/>
            <a:chOff x="6443640" y="4149720"/>
            <a:chExt cx="495360" cy="457200"/>
          </a:xfrm>
        </p:grpSpPr>
        <p:sp>
          <p:nvSpPr>
            <p:cNvPr id="210" name="Rectangle 50"/>
            <p:cNvSpPr/>
            <p:nvPr/>
          </p:nvSpPr>
          <p:spPr>
            <a:xfrm>
              <a:off x="6443640" y="414972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51"/>
            <p:cNvSpPr/>
            <p:nvPr/>
          </p:nvSpPr>
          <p:spPr>
            <a:xfrm>
              <a:off x="6527520" y="4195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49"/>
          <p:cNvGrpSpPr/>
          <p:nvPr/>
        </p:nvGrpSpPr>
        <p:grpSpPr>
          <a:xfrm>
            <a:off x="4343400" y="4159080"/>
            <a:ext cx="495360" cy="457200"/>
            <a:chOff x="4343400" y="4159080"/>
            <a:chExt cx="495360" cy="457200"/>
          </a:xfrm>
        </p:grpSpPr>
        <p:sp>
          <p:nvSpPr>
            <p:cNvPr id="213" name="Rectangle 50"/>
            <p:cNvSpPr/>
            <p:nvPr/>
          </p:nvSpPr>
          <p:spPr>
            <a:xfrm>
              <a:off x="4343400" y="415908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1"/>
            <p:cNvSpPr/>
            <p:nvPr/>
          </p:nvSpPr>
          <p:spPr>
            <a:xfrm>
              <a:off x="4428000" y="4205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9"/>
          <p:cNvGrpSpPr/>
          <p:nvPr/>
        </p:nvGrpSpPr>
        <p:grpSpPr>
          <a:xfrm>
            <a:off x="2519280" y="5649840"/>
            <a:ext cx="495360" cy="457200"/>
            <a:chOff x="2519280" y="5649840"/>
            <a:chExt cx="495360" cy="457200"/>
          </a:xfrm>
        </p:grpSpPr>
        <p:sp>
          <p:nvSpPr>
            <p:cNvPr id="216" name="Rectangle 20"/>
            <p:cNvSpPr/>
            <p:nvPr/>
          </p:nvSpPr>
          <p:spPr>
            <a:xfrm>
              <a:off x="2519280" y="564984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2630880" y="5691240"/>
              <a:ext cx="3117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25"/>
          <p:cNvGrpSpPr/>
          <p:nvPr/>
        </p:nvGrpSpPr>
        <p:grpSpPr>
          <a:xfrm>
            <a:off x="3733920" y="5649840"/>
            <a:ext cx="495360" cy="457200"/>
            <a:chOff x="3733920" y="5649840"/>
            <a:chExt cx="495360" cy="457200"/>
          </a:xfrm>
        </p:grpSpPr>
        <p:sp>
          <p:nvSpPr>
            <p:cNvPr id="219" name="Rectangle 26"/>
            <p:cNvSpPr/>
            <p:nvPr/>
          </p:nvSpPr>
          <p:spPr>
            <a:xfrm>
              <a:off x="3733920" y="564984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7"/>
            <p:cNvSpPr/>
            <p:nvPr/>
          </p:nvSpPr>
          <p:spPr>
            <a:xfrm>
              <a:off x="3840840" y="5680080"/>
              <a:ext cx="3117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49"/>
          <p:cNvGrpSpPr/>
          <p:nvPr/>
        </p:nvGrpSpPr>
        <p:grpSpPr>
          <a:xfrm>
            <a:off x="5724360" y="5661000"/>
            <a:ext cx="495360" cy="457200"/>
            <a:chOff x="5724360" y="5661000"/>
            <a:chExt cx="495360" cy="457200"/>
          </a:xfrm>
        </p:grpSpPr>
        <p:sp>
          <p:nvSpPr>
            <p:cNvPr id="222" name="Rectangle 50"/>
            <p:cNvSpPr/>
            <p:nvPr/>
          </p:nvSpPr>
          <p:spPr>
            <a:xfrm>
              <a:off x="5724360" y="566100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51"/>
            <p:cNvSpPr/>
            <p:nvPr/>
          </p:nvSpPr>
          <p:spPr>
            <a:xfrm>
              <a:off x="5789880" y="5707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05"/>
          <p:cNvGrpSpPr/>
          <p:nvPr/>
        </p:nvGrpSpPr>
        <p:grpSpPr>
          <a:xfrm>
            <a:off x="3127320" y="5649840"/>
            <a:ext cx="495360" cy="457200"/>
            <a:chOff x="3127320" y="5649840"/>
            <a:chExt cx="495360" cy="457200"/>
          </a:xfrm>
        </p:grpSpPr>
        <p:sp>
          <p:nvSpPr>
            <p:cNvPr id="225" name="Rectangle 23"/>
            <p:cNvSpPr/>
            <p:nvPr/>
          </p:nvSpPr>
          <p:spPr>
            <a:xfrm>
              <a:off x="3127320" y="564984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7"/>
            <p:cNvSpPr/>
            <p:nvPr/>
          </p:nvSpPr>
          <p:spPr>
            <a:xfrm>
              <a:off x="3333600" y="5851440"/>
              <a:ext cx="79200" cy="6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49"/>
          <p:cNvGrpSpPr/>
          <p:nvPr/>
        </p:nvGrpSpPr>
        <p:grpSpPr>
          <a:xfrm>
            <a:off x="6372360" y="5661000"/>
            <a:ext cx="495000" cy="457200"/>
            <a:chOff x="6372360" y="5661000"/>
            <a:chExt cx="495000" cy="457200"/>
          </a:xfrm>
        </p:grpSpPr>
        <p:sp>
          <p:nvSpPr>
            <p:cNvPr id="228" name="Rectangle 50"/>
            <p:cNvSpPr/>
            <p:nvPr/>
          </p:nvSpPr>
          <p:spPr>
            <a:xfrm>
              <a:off x="6372360" y="5661000"/>
              <a:ext cx="49500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437520" y="5707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9"/>
          <p:cNvGrpSpPr/>
          <p:nvPr/>
        </p:nvGrpSpPr>
        <p:grpSpPr>
          <a:xfrm>
            <a:off x="4309920" y="5649840"/>
            <a:ext cx="495360" cy="457200"/>
            <a:chOff x="4309920" y="5649840"/>
            <a:chExt cx="495360" cy="457200"/>
          </a:xfrm>
        </p:grpSpPr>
        <p:sp>
          <p:nvSpPr>
            <p:cNvPr id="231" name="Rectangle 50"/>
            <p:cNvSpPr/>
            <p:nvPr/>
          </p:nvSpPr>
          <p:spPr>
            <a:xfrm>
              <a:off x="4309920" y="564984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1"/>
            <p:cNvSpPr/>
            <p:nvPr/>
          </p:nvSpPr>
          <p:spPr>
            <a:xfrm>
              <a:off x="4376520" y="56959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Cloud 117"/>
          <p:cNvSpPr/>
          <p:nvPr/>
        </p:nvSpPr>
        <p:spPr>
          <a:xfrm>
            <a:off x="6148440" y="2795760"/>
            <a:ext cx="2544840" cy="1339560"/>
          </a:xfrm>
          <a:prstGeom prst="pie">
            <a:avLst/>
          </a:prstGeom>
          <a:solidFill>
            <a:srgbClr val="bbe0e3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the subtraction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932360" y="4149720"/>
            <a:ext cx="720720" cy="457200"/>
            <a:chOff x="4932360" y="4149720"/>
            <a:chExt cx="720720" cy="457200"/>
          </a:xfrm>
        </p:grpSpPr>
        <p:sp>
          <p:nvSpPr>
            <p:cNvPr id="235" name="Rectangle 26"/>
            <p:cNvSpPr/>
            <p:nvPr/>
          </p:nvSpPr>
          <p:spPr>
            <a:xfrm>
              <a:off x="4932360" y="4149720"/>
              <a:ext cx="72072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7"/>
            <p:cNvSpPr/>
            <p:nvPr/>
          </p:nvSpPr>
          <p:spPr>
            <a:xfrm>
              <a:off x="5047920" y="4179960"/>
              <a:ext cx="5799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32360" y="5661000"/>
            <a:ext cx="720720" cy="457200"/>
            <a:chOff x="4932360" y="5661000"/>
            <a:chExt cx="720720" cy="457200"/>
          </a:xfrm>
        </p:grpSpPr>
        <p:sp>
          <p:nvSpPr>
            <p:cNvPr id="238" name="Rectangle 26"/>
            <p:cNvSpPr/>
            <p:nvPr/>
          </p:nvSpPr>
          <p:spPr>
            <a:xfrm>
              <a:off x="4932360" y="5661000"/>
              <a:ext cx="72072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5047920" y="5691240"/>
              <a:ext cx="5799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 1 Credit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3E99-AA0C-4B6C-A7F9-FBB89E40410D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46920" y="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68360" y="333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culations and the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836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tandard Form  Scientific Notation -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5"/>
          <p:cNvSpPr/>
          <p:nvPr/>
        </p:nvSpPr>
        <p:spPr>
          <a:xfrm>
            <a:off x="1220760" y="1844640"/>
            <a:ext cx="42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alculate:     4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÷ 8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1"/>
          <p:cNvSpPr/>
          <p:nvPr/>
        </p:nvSpPr>
        <p:spPr>
          <a:xfrm>
            <a:off x="394920" y="2349360"/>
            <a:ext cx="80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good practice to put each value in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5"/>
          <p:cNvGrpSpPr/>
          <p:nvPr/>
        </p:nvGrpSpPr>
        <p:grpSpPr>
          <a:xfrm>
            <a:off x="2546280" y="3438360"/>
            <a:ext cx="495360" cy="457200"/>
            <a:chOff x="2546280" y="3438360"/>
            <a:chExt cx="495360" cy="457200"/>
          </a:xfrm>
        </p:grpSpPr>
        <p:sp>
          <p:nvSpPr>
            <p:cNvPr id="249" name="Rectangle 26"/>
            <p:cNvSpPr/>
            <p:nvPr/>
          </p:nvSpPr>
          <p:spPr>
            <a:xfrm>
              <a:off x="2546280" y="343836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7"/>
            <p:cNvSpPr/>
            <p:nvPr/>
          </p:nvSpPr>
          <p:spPr>
            <a:xfrm>
              <a:off x="2656440" y="3468600"/>
              <a:ext cx="24948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9"/>
          <p:cNvGrpSpPr/>
          <p:nvPr/>
        </p:nvGrpSpPr>
        <p:grpSpPr>
          <a:xfrm>
            <a:off x="3152880" y="3438360"/>
            <a:ext cx="495360" cy="457200"/>
            <a:chOff x="3152880" y="3438360"/>
            <a:chExt cx="495360" cy="457200"/>
          </a:xfrm>
        </p:grpSpPr>
        <p:sp>
          <p:nvSpPr>
            <p:cNvPr id="252" name="Rectangle 20"/>
            <p:cNvSpPr/>
            <p:nvPr/>
          </p:nvSpPr>
          <p:spPr>
            <a:xfrm>
              <a:off x="3152880" y="343836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3264480" y="3479760"/>
              <a:ext cx="3117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49"/>
          <p:cNvGrpSpPr/>
          <p:nvPr/>
        </p:nvGrpSpPr>
        <p:grpSpPr>
          <a:xfrm>
            <a:off x="4716360" y="3429000"/>
            <a:ext cx="495360" cy="457200"/>
            <a:chOff x="4716360" y="3429000"/>
            <a:chExt cx="495360" cy="457200"/>
          </a:xfrm>
        </p:grpSpPr>
        <p:sp>
          <p:nvSpPr>
            <p:cNvPr id="255" name="Rectangle 50"/>
            <p:cNvSpPr/>
            <p:nvPr/>
          </p:nvSpPr>
          <p:spPr>
            <a:xfrm>
              <a:off x="4716360" y="342900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4800240" y="3475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49"/>
          <p:cNvGrpSpPr/>
          <p:nvPr/>
        </p:nvGrpSpPr>
        <p:grpSpPr>
          <a:xfrm>
            <a:off x="5364000" y="3429000"/>
            <a:ext cx="495360" cy="457200"/>
            <a:chOff x="5364000" y="3429000"/>
            <a:chExt cx="495360" cy="457200"/>
          </a:xfrm>
        </p:grpSpPr>
        <p:sp>
          <p:nvSpPr>
            <p:cNvPr id="258" name="Rectangle 50"/>
            <p:cNvSpPr/>
            <p:nvPr/>
          </p:nvSpPr>
          <p:spPr>
            <a:xfrm>
              <a:off x="5364000" y="342900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1"/>
            <p:cNvSpPr/>
            <p:nvPr/>
          </p:nvSpPr>
          <p:spPr>
            <a:xfrm>
              <a:off x="5451120" y="3475080"/>
              <a:ext cx="24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Group 28" descr=""/>
          <p:cNvPicPr/>
          <p:nvPr/>
        </p:nvPicPr>
        <p:blipFill>
          <a:blip r:embed="rId2"/>
          <a:stretch/>
        </p:blipFill>
        <p:spPr>
          <a:xfrm>
            <a:off x="4456080" y="4084560"/>
            <a:ext cx="517680" cy="48096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9"/>
          <p:cNvGrpSpPr/>
          <p:nvPr/>
        </p:nvGrpSpPr>
        <p:grpSpPr>
          <a:xfrm>
            <a:off x="2546280" y="4784760"/>
            <a:ext cx="495360" cy="457200"/>
            <a:chOff x="2546280" y="4784760"/>
            <a:chExt cx="495360" cy="457200"/>
          </a:xfrm>
        </p:grpSpPr>
        <p:sp>
          <p:nvSpPr>
            <p:cNvPr id="262" name="Rectangle 20"/>
            <p:cNvSpPr/>
            <p:nvPr/>
          </p:nvSpPr>
          <p:spPr>
            <a:xfrm>
              <a:off x="2546280" y="4784760"/>
              <a:ext cx="49536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1"/>
            <p:cNvSpPr/>
            <p:nvPr/>
          </p:nvSpPr>
          <p:spPr>
            <a:xfrm>
              <a:off x="2661120" y="4826160"/>
              <a:ext cx="24948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49"/>
          <p:cNvGrpSpPr/>
          <p:nvPr/>
        </p:nvGrpSpPr>
        <p:grpSpPr>
          <a:xfrm>
            <a:off x="3122640" y="4784760"/>
            <a:ext cx="495360" cy="457200"/>
            <a:chOff x="3122640" y="4784760"/>
            <a:chExt cx="495360" cy="457200"/>
          </a:xfrm>
        </p:grpSpPr>
        <p:sp>
          <p:nvSpPr>
            <p:cNvPr id="265" name="Rectangle 50"/>
            <p:cNvSpPr/>
            <p:nvPr/>
          </p:nvSpPr>
          <p:spPr>
            <a:xfrm>
              <a:off x="3122640" y="478476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3207240" y="4830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9"/>
          <p:cNvGrpSpPr/>
          <p:nvPr/>
        </p:nvGrpSpPr>
        <p:grpSpPr>
          <a:xfrm>
            <a:off x="4716360" y="4797360"/>
            <a:ext cx="495360" cy="457200"/>
            <a:chOff x="4716360" y="4797360"/>
            <a:chExt cx="495360" cy="457200"/>
          </a:xfrm>
        </p:grpSpPr>
        <p:sp>
          <p:nvSpPr>
            <p:cNvPr id="268" name="Rectangle 50"/>
            <p:cNvSpPr/>
            <p:nvPr/>
          </p:nvSpPr>
          <p:spPr>
            <a:xfrm>
              <a:off x="4716360" y="479736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51"/>
            <p:cNvSpPr/>
            <p:nvPr/>
          </p:nvSpPr>
          <p:spPr>
            <a:xfrm>
              <a:off x="4800240" y="4843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9"/>
          <p:cNvGrpSpPr/>
          <p:nvPr/>
        </p:nvGrpSpPr>
        <p:grpSpPr>
          <a:xfrm>
            <a:off x="5364000" y="4797360"/>
            <a:ext cx="495360" cy="457200"/>
            <a:chOff x="5364000" y="4797360"/>
            <a:chExt cx="495360" cy="457200"/>
          </a:xfrm>
        </p:grpSpPr>
        <p:sp>
          <p:nvSpPr>
            <p:cNvPr id="271" name="Rectangle 50"/>
            <p:cNvSpPr/>
            <p:nvPr/>
          </p:nvSpPr>
          <p:spPr>
            <a:xfrm>
              <a:off x="5364000" y="4797360"/>
              <a:ext cx="495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51"/>
            <p:cNvSpPr/>
            <p:nvPr/>
          </p:nvSpPr>
          <p:spPr>
            <a:xfrm>
              <a:off x="5451120" y="4843440"/>
              <a:ext cx="24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Group 28" descr=""/>
          <p:cNvPicPr/>
          <p:nvPr/>
        </p:nvPicPr>
        <p:blipFill>
          <a:blip r:embed="rId3"/>
          <a:stretch/>
        </p:blipFill>
        <p:spPr>
          <a:xfrm>
            <a:off x="3962520" y="5479920"/>
            <a:ext cx="523800" cy="482760"/>
          </a:xfrm>
          <a:prstGeom prst="rect">
            <a:avLst/>
          </a:prstGeom>
          <a:ln w="0">
            <a:noFill/>
          </a:ln>
        </p:spPr>
      </p:pic>
      <p:pic>
        <p:nvPicPr>
          <p:cNvPr id="274" name="Group 28" descr=""/>
          <p:cNvPicPr/>
          <p:nvPr/>
        </p:nvPicPr>
        <p:blipFill>
          <a:blip r:embed="rId4"/>
          <a:stretch/>
        </p:blipFill>
        <p:spPr>
          <a:xfrm>
            <a:off x="4608360" y="5479920"/>
            <a:ext cx="781200" cy="48276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3851280" y="3429000"/>
            <a:ext cx="720720" cy="457200"/>
            <a:chOff x="3851280" y="3429000"/>
            <a:chExt cx="720720" cy="457200"/>
          </a:xfrm>
        </p:grpSpPr>
        <p:sp>
          <p:nvSpPr>
            <p:cNvPr id="276" name="Rectangle 26"/>
            <p:cNvSpPr/>
            <p:nvPr/>
          </p:nvSpPr>
          <p:spPr>
            <a:xfrm>
              <a:off x="3851280" y="3429000"/>
              <a:ext cx="72072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7"/>
            <p:cNvSpPr/>
            <p:nvPr/>
          </p:nvSpPr>
          <p:spPr>
            <a:xfrm>
              <a:off x="3966840" y="3459240"/>
              <a:ext cx="5799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851280" y="4797360"/>
            <a:ext cx="720720" cy="457200"/>
            <a:chOff x="3851280" y="4797360"/>
            <a:chExt cx="720720" cy="457200"/>
          </a:xfrm>
        </p:grpSpPr>
        <p:sp>
          <p:nvSpPr>
            <p:cNvPr id="279" name="Rectangle 26"/>
            <p:cNvSpPr/>
            <p:nvPr/>
          </p:nvSpPr>
          <p:spPr>
            <a:xfrm>
              <a:off x="3851280" y="4797360"/>
              <a:ext cx="72072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27"/>
            <p:cNvSpPr/>
            <p:nvPr/>
          </p:nvSpPr>
          <p:spPr>
            <a:xfrm>
              <a:off x="3966840" y="4827600"/>
              <a:ext cx="5799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 1 Credit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1E9A-AEBB-4A87-8AB9-8B598EB9374D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1916280"/>
            <a:ext cx="4176720" cy="3054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0  Ex 7.1 p11 Ex 7.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your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Ex 7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 to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xt Les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88000" y="1916280"/>
            <a:ext cx="4176720" cy="3010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ion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12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for Nex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5300640"/>
            <a:ext cx="8207280" cy="785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0920" y="5445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mplete Homework Sheet 1 on or before  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846920" y="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68360" y="333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culations and the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836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tandard Form  Scientific Notation -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 1 Credit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B00F-E8D8-4BA9-97AD-1E361974CE75}" type="datetime2"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dnesday, July 29, 20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057640"/>
            <a:ext cx="8497800" cy="139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5084640"/>
            <a:ext cx="35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  Write in Scientific Notat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1300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St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989000"/>
            <a:ext cx="4106880" cy="27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1989000"/>
            <a:ext cx="4033800" cy="288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x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333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culations and the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589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 230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  Calculate  the follow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2060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Find the length  of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55897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 0.005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2852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  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24922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46920" y="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836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tandard Form  Scientific Notation -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4360" y="2781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08720" y="2852640"/>
            <a:ext cx="1368720" cy="108108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7885080" y="2924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7596720" y="40053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6588720" y="32130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29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3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3640" y="371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 - 64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263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ythag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40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6720" y="443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32360" y="5589720"/>
            <a:ext cx="1368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 56920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0000" y="55897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  0.0506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3213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35002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3789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306864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8436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407664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95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3  x 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5950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3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59500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692  x 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6000" y="60213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0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6520" cy="699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4067280"/>
            <a:ext cx="41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Standard Form   Rec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27520" y="4194000"/>
            <a:ext cx="6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2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396120" y="0"/>
            <a:ext cx="2747880" cy="2538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62064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P la n e ta ry D a 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557360"/>
            <a:ext cx="89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S u 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Ma s 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000 000 000 000 000 000 000 000 000 000</a:t>
            </a: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 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201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602"/>
                            </p:stCondLst>
                            <p:childTnLst>
                              <p:par>
                                <p:cTn id="93" nodeType="after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animMotion origin="layout" path="M -2.77778E-006 -3.7037E-006 C -0.01337 -0.0199 -0.06718 -0.02268 -0.1151 0.01135 C -0.15607 0.07338 -0.18958 0.11065 -0.21962 0.31274 C -0.28802 0.16181 -0.29132 0.2507 -0.33298 0.23727 C -0.38524 0.23727 -0.47639 0.37315 -0.47639 0.52894 C -0.47639 0.4507 -0.50468 0.46621 -0.52795 0.45278 C -0.55416 0.45278 -0.58194 0.52616 -0.58194 0.60649 C -0.58194 0.56621 -0.58646 0.52616 -0.59965 0.52616 C -0.6125 0.52616 -0.63715 0.57292 -0.63715 0.61111 C -0.63715 0.59074 -0.64271 0.57755 -0.64913 0.57755 C -0.65225 0.57755 -0.66198 0.59769 -0.66198 0.61806 C -0.66198 0.60787 -0.66545 0.59769 -0.66892 0.59769 C -0.66892 0.59514 -0.67569 0.60787 -0.67569 0.61806 C -0.67569 0.61274 -0.67569 0.60787 -0.67916 0.60787 C -0.67916 0.61042 -0.68264 0.61297 -0.68264 0.61806 C -0.68264 0.61528 -0.68264 0.61274 -0.68264 0.61042 C -0.68611 0.61042 -0.68611 0.61297 -0.68611 0.61551 C -0.68923 0.61551 -0.68923 0.61297 -0.68923 0.61042 C -0.69271 0.61042 -0.70399 0.62662 -0.70399 0.6294 E">
                                      <p:cBhvr>
                                        <p:cTn id="94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651640" y="378936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Jup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mas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000 000 000 000 000 000 000 000 000 </a:t>
            </a: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201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702"/>
                            </p:stCondLst>
                            <p:childTnLst>
                              <p:par>
                                <p:cTn id="1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Rot by="43200000">
                                      <p:cBhvr>
                                        <p:cTn id="10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12000" y="260280"/>
            <a:ext cx="2233440" cy="214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9640" y="6206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 a n et a r 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E art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mas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6 000 000 000 000 000 000 000 000 </a:t>
            </a: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01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202"/>
                            </p:stCondLst>
                            <p:childTnLst>
                              <p:par>
                                <p:cTn id="123" nodeType="after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Motion origin="layout" path="M 2.22222E-006 1.48148E-006 C -0.07465 0.01481 -0.07622 0.04537 -0.07622 0.07546 C -0.07622 0.10324 -0.07552 0.13125 -0.0033 0.13125 C 0.06857 0.13125 0.09878 0.11435 0.09878 0.08657 C 0.09878 0.05648 0.06632 0.04537 -0.00573 0.06528 C -0.07674 0.08796 -0.10643 0.12315 -0.10643 0.15092 C -0.10643 0.17917 -0.07465 0.2044 -0.0033 0.2044 C 0.06857 0.2044 0.10555 0.18796 0.10555 0.15972 C 0.10555 0.13194 0.06632 0.11829 -0.00452 0.13866 C -0.07674 0.15903 -0.12934 0.19653 -0.12934 0.22454 C -0.12934 0.25486 -0.07465 0.27754 -0.00243 0.27754 C 0.06857 0.27754 0.11389 0.25231 0.11389 0.22199 C 0.11389 0.19676 0.06632 0.19167 -0.00452 0.20926 C -0.07552 0.22963 -0.17795 0.27407 -0.17795 0.30208 C -0.17795 0.32986 -0.07344 0.34815 -0.00243 0.34815 C 0.07083 0.34815 0.12222 0.32986 0.12222 0.30208 C 0.12222 0.27407 0.06753 0.26227 -0.0033 0.28264 C -0.07465 0.30278 -0.21285 0.34583 -0.21285 0.37315 C -0.21285 0.4037 -0.07344 0.41875 -0.00122 0.41875 C 0.07083 0.41875 0.12222 0.39629 0.12222 0.36875 C 0.12222 0.34143 0.06753 0.3331 -0.0033 0.35347 C -0.07465 0.37338 -0.29618 0.42153 -0.29618 0.44653 C -0.29618 0.47454 -0.07257 0.48958 -0.00122 0.48958 C 0.07083 0.48958 0.11719 0.47222 0.11719 0.44421 C 0.11719 0.41921 0.06857 0.40625 -0.0033 0.4243 C -0.07465 0.44421 -0.39792 0.49421 -0.39792 0.52199 C -0.39792 0.54722 -0.07257 0.56273 2.22222E-006 0.56273 C 0.07205 0.56273 0.11215 0.54329 0.11215 0.51528 C 0.11215 0.4875 0.06857 0.47754 -0.00243 0.49745 C -0.07344 0.51759 -0.63386 0.5919 -0.63281 0.61991 C -0.63195 0.64768 -0.07379 0.66875 -0.00122 0.66875 C 0.07083 0.66875 0.10555 0.6162 0.10555 0.58866 C 0.10555 0.56319 0.07083 0.54815 2.22222E-006 0.57083 E">
                                      <p:cBhvr>
                                        <p:cTn id="124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020000" y="549360"/>
            <a:ext cx="1390680" cy="1409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9640" y="155736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mas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0 000 000 000 000 000 000 000</a:t>
            </a:r>
            <a:r>
              <a:rPr b="0" lang="en-GB" sz="3600" spc="-1" strike="noStrike">
                <a:solidFill>
                  <a:srgbClr val="ffffff"/>
                </a:solidFill>
                <a:latin typeface="Checkbook"/>
              </a:rPr>
              <a:t> 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62064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Planeta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201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902"/>
                            </p:stCondLst>
                            <p:childTnLst>
                              <p:par>
                                <p:cTn id="138" nodeType="after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hunk.wav"/>
                                        </p:tgtEl>
                                      </p:cMediaNode>
                                    </p:audio>
                                    <p:animMotion origin="layout" path="M 1.11022E-016 -0.00046 L 0.09288 0.22569 L -0.05712 0.72801 L -0.30868 -0.08056 L -0.57708 0.7169 L -0.77049 0.29931 L -0.54705 -0.06944 L -0.25208 0.72593 L 1.11022E-016 -0.00046 Z">
                                      <p:cBhvr>
                                        <p:cTn id="139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1341360"/>
            <a:ext cx="8425080" cy="48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 000 000 000 000 000 000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 000 000 000 000 000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6 000 000 000 000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70 000 000 000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620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Can you write these numbers in standard f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701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701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701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701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979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 000 000 000 000 000 000 000 000 00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740720" y="5952960"/>
            <a:ext cx="1200240" cy="905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9640" y="620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eckbook"/>
              </a:rPr>
              <a:t>How did you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7720" y="315612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 000 000 000 000 000 000 000 000 00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48640" y="3171960"/>
            <a:ext cx="8137440" cy="50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31561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×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43322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6 000 000 000 000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38920" y="4348080"/>
            <a:ext cx="8137800" cy="50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67280" y="43322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×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7720" y="554040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70 000 000 000 00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32800" y="5556240"/>
            <a:ext cx="8137440" cy="50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76640" y="55404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×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38920" y="2004840"/>
            <a:ext cx="8137800" cy="50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7280" y="1989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× 1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101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101"/>
                            </p:stCondLst>
                            <p:childTnLst>
                              <p:par>
                                <p:cTn id="16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399 0.00046 L -0.40538 0.00046 E">
                                      <p:cBhvr>
                                        <p:cTn id="170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2.22222E-006 L 0.35434 2.22222E-006 E">
                                      <p:cBhvr>
                                        <p:cTn id="172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101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399 0.00046 L -0.40538 0.00046 E">
                                      <p:cBhvr>
                                        <p:cTn id="184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L 0.35434 2.22222E-006 E">
                                      <p:cBhvr>
                                        <p:cTn id="186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399 0.00046 L -0.40538 0.00046 E">
                                      <p:cBhvr>
                                        <p:cTn id="198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L 0.35434 2.22222E-006 E">
                                      <p:cBhvr>
                                        <p:cTn id="200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399 0.00046 L -0.40538 0.00046 E">
                                      <p:cBhvr>
                                        <p:cTn id="212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L 0.35434 2.22222E-006 E">
                                      <p:cBhvr>
                                        <p:cTn id="214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2:42:12Z</dcterms:created>
  <dc:creator>Caroline</dc:creator>
  <dc:description/>
  <dc:language>en-US</dc:language>
  <cp:lastModifiedBy>Caroline</cp:lastModifiedBy>
  <dcterms:modified xsi:type="dcterms:W3CDTF">2009-04-30T11:34:59Z</dcterms:modified>
  <cp:revision>17</cp:revision>
  <dc:subject/>
  <dc:title>Slide 1</dc:title>
</cp:coreProperties>
</file>